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8518680" y="630864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A57450AE-247F-4D54-97C7-29153AA1A48B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289080" y="630864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69263B2C-93A0-4177-A354-1EFFECC4C303}" type="datetime"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ntroduction to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nternet Firewa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ren R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81320" y="5029200"/>
            <a:ext cx="278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bersource Pty Lt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978280" y="4403880"/>
            <a:ext cx="3189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arrenr@cyber.com.a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at are you protecting ?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fileserv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uable intellectual property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databa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personnel records, balance sheets, customer record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al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repu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Risk Involv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 you lose if someone breaks in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ey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utation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ial of service at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 bom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Network Security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sure you have 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gs to consider for your polic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ms connected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allowing dialup PPP to a de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software from the Internet on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ware of trojans, viruses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No policy means what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to define your 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hard to take action against insiders who undertake risky behavi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to justify any exp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Creating a Security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you protecting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level of risk is acceptable to you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happens when there is an incident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CERT, police, other official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your network “offline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irewalls and Poli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ieving illegal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ing offensiv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pornographic 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of 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forcing your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Building the 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does it g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ween network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makes it up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s, bastion host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, other hardw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irewall Design #1 :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ingle Screening Rou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06320" y="2438280"/>
            <a:ext cx="773280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05120" y="2438280"/>
            <a:ext cx="5334120" cy="838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3276720"/>
            <a:ext cx="76212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006800" y="2651040"/>
            <a:ext cx="113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4114800"/>
            <a:ext cx="2590920" cy="533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3276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3352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3352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352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276720" y="417528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ing  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4648320"/>
            <a:ext cx="0" cy="761760"/>
          </a:xfrm>
          <a:prstGeom prst="line">
            <a:avLst/>
          </a:prstGeom>
          <a:ln w="1522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55600" y="541008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3886200"/>
            <a:ext cx="2895480" cy="99072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47242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48120" y="556272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943680" y="5824440"/>
            <a:ext cx="847800" cy="595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143000" y="5791320"/>
            <a:ext cx="660240" cy="592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590920" y="5791320"/>
            <a:ext cx="660240" cy="592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2895480" y="5410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5562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819520" y="52578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447920" y="5410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715000" y="5791320"/>
            <a:ext cx="660240" cy="592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6019920" y="5410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696080" y="5410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67080" y="40384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52578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40384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52578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40384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ingle Screening Rou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vely allows IP packets throug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a router or dual-interface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ackets must be able to travel from one endpoint to the oth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ivial mistake can render the Firewall ineffectiv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ons between rules for different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creening Router #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ous can be dangero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host on the internal network can talk to any external hos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times configured to only allow one internal host to talk to external networ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internal hosts use it as a prox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be a dedicated router, not Uni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ntroduc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a Firewall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Firewalls Work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I need a Firewall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irewall Design #2 :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Dual-Homed H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2438280"/>
            <a:ext cx="5334120" cy="838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3276720"/>
            <a:ext cx="76212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006800" y="2651040"/>
            <a:ext cx="113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4114800"/>
            <a:ext cx="2286000" cy="533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3276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3352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3352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3352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014720" y="4175280"/>
            <a:ext cx="111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4648320"/>
            <a:ext cx="0" cy="761760"/>
          </a:xfrm>
          <a:prstGeom prst="line">
            <a:avLst/>
          </a:prstGeom>
          <a:ln w="1522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886200"/>
            <a:ext cx="2590920" cy="99072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7242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48120" y="556272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943680" y="5824440"/>
            <a:ext cx="847800" cy="595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43000" y="5791320"/>
            <a:ext cx="660240" cy="592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590920" y="5791320"/>
            <a:ext cx="660240" cy="592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V="1">
            <a:off x="2895480" y="5410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562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819520" y="52578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447920" y="5410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715000" y="5791320"/>
            <a:ext cx="660240" cy="592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6019920" y="5410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696080" y="5410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52578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52578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55600" y="541008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Dual Homed H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sort of multi-user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s proxying for all network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d to NOT pass or route any IP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easily audit all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more easily filter on content than packet fil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irewall Design #3 :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creened Sub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514600"/>
            <a:ext cx="609480" cy="34290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27160" y="2727360"/>
            <a:ext cx="3207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0" y="2514600"/>
            <a:ext cx="38088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651040" y="3108240"/>
            <a:ext cx="3207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2514600"/>
            <a:ext cx="685800" cy="3352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486400" y="2514600"/>
            <a:ext cx="38088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851440" y="3108240"/>
            <a:ext cx="3207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2514600"/>
            <a:ext cx="685800" cy="3352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3962520"/>
            <a:ext cx="685800" cy="533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426708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743280" y="3157560"/>
            <a:ext cx="847800" cy="595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391520" y="2362320"/>
            <a:ext cx="660240" cy="592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391520" y="3429000"/>
            <a:ext cx="660240" cy="592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7391520" y="5410080"/>
            <a:ext cx="660240" cy="592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934320" y="2286000"/>
            <a:ext cx="0" cy="380988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4267080"/>
            <a:ext cx="76212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34320" y="28195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934320" y="38862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934320" y="58672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3657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2362320"/>
            <a:ext cx="4191120" cy="365760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40384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4114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43434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40384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03848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267080" y="38098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114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411480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343400" y="38098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40384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411480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441972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791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858000" y="27432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858000" y="274320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086600" y="29718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297180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40384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4114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572000" y="38098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648320" y="38098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572000" y="411480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403848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creened Sub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creening router for each exterior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 access to everything but the ba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Z’ between interior and exterior ro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(s) in DMZ are not trusted by any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(s) in DMZ do not trust any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dding Extra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in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P/SL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POP mai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A (Appletalk Remote Acc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ty log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OTPs (One Time Passwor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dicated Internet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nternet Servic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B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plit DNS </a:t>
            </a:r>
            <a:r>
              <a:rPr b="0" i="1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Outs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rnal serv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information for external hosts ONLY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to internal server for all client queries (/etc/resolv.conf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etc/named.boot forwards queries to external name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provide entire internal DNS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plit DNS </a:t>
            </a:r>
            <a:r>
              <a:rPr b="0" i="1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ns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 Server providing information for internal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information for internal hosts ONLY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internal client queries point to it (/etc/resolv.conf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etc/named.boot forwards unanswerable queries to external ser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WW Serv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dicated machin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as an unpriviliedged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be on a port other than 80 (relay port 80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hroot environment if possibl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ware of CGI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double as a cache/prox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CERN http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nonymous F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daemons have had their share of security b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sure “ftp” has an invalid pass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u-archive ftp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lis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ot owns ~ftp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llow group/world writeable directorie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ing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/Security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an Firewalls d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 a 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E-Ma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firewall as relay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horror story unto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to hide internal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rewriting mail headers (trick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with minimal privili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mrsh to limit shell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Use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dicated internal machin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a large amount of bandwidth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a large amount of diskspace for a reasonably complete fee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ct packets to/from feeds onl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R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proxy client-server connection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 can act as proxi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Unix clients hav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angerou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cripting languag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therefore be dangerous to allow naive users to interact with malicious us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B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ast-IP over UD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tunnelled over non-multicast supporting IP network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ast packets aren’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mally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’ing is too s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Variation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ion between router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ing screening router and bast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ging a router in your DMZ with a ho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ccess points to your network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ccess points to the Inter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Bastion between ro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al homed bast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screening rout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connected externally and to the dual-homed bas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connected internally and to the dual-homed ba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Combined Screening Router and Bas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Unix with packet filtering abilit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 bastion is compromised, internal network is directly at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services to proxy, and which not t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prox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 prox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erging Exterior router with Bastion h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ses the bastion to direct IP attack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require extra software/hardware or configuration chang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ll leaves internal network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erging Interior Router with Bastion H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ed subnet is remove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 bastion is compromised, internal network is directly at ris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ultiple Internal Ro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more paths into your internal (valuable) network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s risk of a breaki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g erro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result in routing internal traffic via external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likely for a access list problem/inconsistan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ssary of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Z - De-Militarized Z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 Fil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ultiple External Ro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redundant Internet connection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only provide more ways to get to your Firewall and not through i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Comparis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loying a DMZ (at least 3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x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ing your Fire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uln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o Proxy or not to Prox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ing is slower than packet filter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ing is less risky than packet filter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er to debug proxy problem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ing provides access to session layer and higher dat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easier to filter on data stream cont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ing takes more effort to set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Building Your own 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ly available pack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Unix for your Firewall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ability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ing Internet Services for a 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reely Available Packages</a:t>
            </a:r>
            <a:br>
              <a:rPr sz="44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  <a:ea typeface="Arial"/>
              </a:rPr>
              <a:t>(unbundl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stone Tool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S Firewall Toolkit (FWT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Fil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OCKS 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  <a:ea typeface="Arial"/>
              </a:rPr>
              <a:t>(Version 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support of client software to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ches available for some client software (but must have source), else custom clients require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like Netscape will come with built-in suppor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ging is done by client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works with TC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OCKS Pack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(proxy agent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access control check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librar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Sified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, ftp,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, Windows versions of client softw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OCKS (Version 5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FC 1928 (Proposed Standard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GSSAP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IPv4 &amp; IPv6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s UD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reestone Toolk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tesy of Sources of Supply (SOS) Corporat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soscorp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mends using TCP wrapp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x configuration fi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IS Firewall Toolkit (FWTK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tesy of Trusted Information Systems (T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tis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proxies for common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-gw, http-gw, et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proxy to handle others (plug-gw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e mail relay software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pd/sma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tarting O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do people have firewall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es it d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esn’t it d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you protecting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risk involved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network/security poli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WTK &amp; Dual-homed Bas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configuration fi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clients have access control builti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acl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e different proxies for different destinations/origin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extended authorization checks (authserv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reestone/FWTK Lega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freely available but limitations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it as part of a “product”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ing changes to 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ially un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WTK users are encouraged to buy Gauntlet if they like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p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vailable freely and can be registere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s common heritage with filtering code in Linux/FreeBSD (ipfw/ipfwadm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works on BSD Unixes based on 4.4BSD-L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SD, FreeBSD, BSD/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command interface to kernel c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P Fil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ly available (for commercial use too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OS 4.1.x, Solaris 2.x, FreeBSD, NetBSD, OpenBSD, BSD/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coombs.anu.edu.au/~avalon/ip-filter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P Filter detai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filtering of IP packet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filter on addresses, ports, ICMP types, etc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logging through a character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 details can be stored in a file or sent to syslog or both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e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k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CMP/TCP RST re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P Filter as part of the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built into the ker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OS 4.1.x, NetBSD, FreeBSD, BSD/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as a loadable kernel mod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aris 2, SunOS 4, NetBSD, FreeBS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of Unix tools to monitor and control the filt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ich Unix for your Firewall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OS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aris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I’s BSD/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BS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B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unOS 4.1.4 or Solaris 2.5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OS 4.1.4 is Solaris 1.1.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aris 2.5 is SunOS 5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 compiler bundled with Solaris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bugs fixes in SunOS 5.5 kernel that aren’t (and won’t be) in SunOS 4.1.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aris 2-x86 for PCs is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Linu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lly evolv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ng” compared to other Unix’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ess bugfre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a large variety of PC hardwa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 is freely availab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s with its ow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ew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BSD/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remaining commercial BSD Unix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on PC hardwa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 licence is relatively chea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ercial, thus support is avail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y do people have Firewall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access to other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al point for access to the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fence for your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rdle for intruders to get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enforce network/security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 users from inadvertantly creating security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remote access via insecure l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reeBS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dicated to working on P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friendly installation and configur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4.4BSD-Lit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networking and filesystem cod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a large variety of PC hardwa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 is freely availab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s with its ow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ew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NetBS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on a large variety of different hardware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Suns, DECs, Alphas, Macs, Amigas, et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4.4BSD-Lit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networking and filesystem cod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 is freely avail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etting up your 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Firewall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Config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Operating System Instal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nnect your Firewall to-be from any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riginal media (tape/CD-R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your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Operating System Configu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permissions on files and dire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/disable set-uid and set-gid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 all non-essential accou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lp, ingres, gam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other softw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tcp-wrappers, gcc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irewall Software Instal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 software from CD-ROM/tape/flop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and install your Firewall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your 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n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 excess programs used for installation but not required for ope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est Firewall Set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your Firewall to the Internal network and attempt to us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nnect from Internal network and connect to External network and test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your Firewall closely during the tests and look for unexpected behavi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changes as necessary and repeat until the Firewall performs as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Going L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your Firewall to both Internal and External networ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be afraid to disconnect if a problem ari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ounce availability to us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Logg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syslog’ing of ever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unused fac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process accou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log roll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a daily/weekly/monthly basi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x kilo-byte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copies of log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Logging Network Conn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nd use TCP wrap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t” flag for inetd under Solaris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ging access to portmap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ortmap 3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log connections direct to RPC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 shared libr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at does it do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s as a control point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ople accessing your network from other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ckers trying to gain unauthorised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ople accessing other networks from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CP Wrap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as a standin for the real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es real daemon if access is gra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P# against Access Control 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f IP#’s in ACLs is more secure than domain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ttacking TCP Wrap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onfigured to do reverse DNS lookups to check IP# to domainname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setup to disable source-routed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patch for SunOS 4.1.1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setup to disable IP spoofing at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P Spoofing Atta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ro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altered routes/ARP e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i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t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ource Routed Atta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 to be used is encoded in the IP options of the packet header by attack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 in packet header is used to send packets back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 filtering often allows this to be filtered on/disab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Cisco’s support “no ip source-rout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ake ARP/Routing table ent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P attacks only effective for LAN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effective against Intranet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g tables can often be easily spoof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sending fake RIP packets (no authentica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ged ICMP redir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Blind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 Atta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are just send, no replies s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es are guessed/calculated by attac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st done by making a trusted hos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l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ck style used by Kevin Mitn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Retarding IP Atta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 out (block) all ICMP redirect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g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atic routes wherever possibl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ve the “real routing” to router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ing IP spoofing at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 any traffic which comes from a network address you use, including 127.0.0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Patching the Kernel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(SunOS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b -w -k /vmunix /dev/km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_portmon/W1, nfs_portmon?W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_forwarding/W-1, ip_forwarding?W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 time op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 “IPFORDWARDING=-1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able Kernel Modules, 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Patching the Kernel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(Solaris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etc/init.d/inet, ndd -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ip ip_path_mtu_discovery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ip ip_forwarding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ip ip_forward_src_routed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ip ip_ignore_redirect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ip ip_strict_dst_multihoming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tcp tcp_conn_req_max 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tcp tcp_close_wait_interval 3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tcp tcp_strong_iss 1 (2.5 only - defaul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aking Sendmail Saf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ail.local as the Mlocal, rather than /bin/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rn on op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authwarnings needmailhelo noexpn restrictmail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at doesn’t it do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stop users doing silly th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won’t stop someone walking out the door with confidential information on a floppy dis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prevent people from chosing bad password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prevent insiders from helping unauthorised outsiders get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Reliability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ing your Firewall up 24x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connectivity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ndant system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up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/user support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curity) patche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Encry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rypting IP pa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P/Photuris (IETF IPsec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PN’s (Virtual Private Networks)/ VNP’s (Virtual Network Perime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rypted IP tunnels between private networks over public network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manag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uthent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time passwords (challenge-response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ds: SecureID, etc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gorithms: S/Key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beros (ticket based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WTK authser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ere to get more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ewalls and Internet Security”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lovin &amp; Cheswick, Addison Wes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BN 0-201-63357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 Internet Firewall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man &amp;  Zwick, O’Reilly &amp; Associ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BN 1-56592-124-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ailling li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e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ewalls@greatcircle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nd e-mail to majordomo@greatcircle.co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 mailling lis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wtk-users@ti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b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gtraq@crimelab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security@is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st-of-security@suburbia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irewalls and Internal Secur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increase internal securi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prevent users from using their PC’s to snoop internal network traffic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make all your Unix systems safe from all sendmail bug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make NFS secur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stop people trying to break 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tell you who tried to break 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protect you against Viru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rren Reed</dc:creator>
  <dc:description/>
  <dc:language>en-US</dc:language>
  <cp:lastModifiedBy>Mr Magoo</cp:lastModifiedBy>
  <cp:revision>0</cp:revision>
  <dc:subject/>
  <dc:title>Introduction to Internet Firewalls</dc:title>
</cp:coreProperties>
</file>